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620C-A6DC-43D6-8DE5-22DAEC6EA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7884-CB5D-41C1-BD04-25F8EBB57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3B7-50AF-4D64-BA93-764DD2B8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869-4B20-49D8-83E5-F400108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EEC-BA03-4DC8-9FFC-1F56D9CF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EFD-0BCE-4323-9DD9-84DBE7FF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6BD22-8BA0-426D-80C6-392BA7C9DF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3FA18-A9FD-44F6-B457-D62A75B44E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85D8B-01AD-47F4-A402-F6627A023F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47E80-E52E-48F5-ABBB-5A0341C266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22C63-0FC2-475C-8574-A3DC77475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D8F7A-530C-48FE-BB10-B243A38957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BBFC1-6BE0-43F3-A1C0-38AECCFFA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D56-1328-439E-B4DA-6733FAB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DD150-7AF6-44FC-B557-505B07E352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594C7-67FF-41F6-9FF5-4EFABA75AC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937DB-F230-4009-B449-FCC53F403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11EBE-AFBD-4515-9380-4CE01B3C92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4F325-DAB0-43BE-8C68-C23D7F1225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65BFA-CA7B-43C5-8A23-7A3718CBFA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FADBE-68AA-4B65-9102-29B5072BA4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D608A-8CE0-4908-918E-76A80B04EC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B8973-0686-4710-89E8-D9B9241C58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D8106-7BD2-42CB-AD6C-D0B6F3A9FD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104-4648-40C5-B096-CA3869A7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C819F-72FA-42A6-B58F-4F9A962A55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D80DC-A849-4830-9CDC-884B92FE67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142A7-A665-4BA7-8DE6-3F16CA0B92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39FF4-9B49-4C0B-885E-D065CC5EB2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C832D-6799-43FF-BEE3-75BFDB4BB5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825A0-BF72-402B-856E-89B3E95B30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31743-7567-4CE3-92B6-5968CF2D30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E3B-3C1C-465F-ACA7-64128AE7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979D3-70A2-4DC0-AB52-8B3389330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ABB-A206-4A94-8554-2B950BDB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8C6AD-B9FF-445F-A8E0-95FEA92DC4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B8C04-6836-4B05-8BBE-461E29ED0B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7CB24-BD10-4369-B0BD-8E524C9E96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978B6-4A7C-4E6B-88EE-4EE2E113063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1B977-9CB9-4A51-A841-A36EC1F106D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D70F5-EF0A-4A0C-BFE6-7AF9D2F238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A72D3-5EE8-4924-8179-F8730DC9A9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2053D-714B-4384-AE59-13AA9E2121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C2CB0-A082-46A1-86DC-084AE5DAC9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92B1A-B410-46F4-ABBB-A6707853E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5F2-3166-4923-AE37-33F6147E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D2809-990D-40BF-B5CD-04871CEB66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514C8C-E0A0-4D27-A446-E8FB55CC0B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DA144A-CB47-4BBF-88F2-2D34A6301B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EA3A3E-7C41-455B-B7B2-F42D16EF37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C858EA-6096-4C1C-8EF0-3F1FDEB9BA7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D0767B-B50F-44B9-857B-DF61570122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3A4A9-C3E6-4734-894D-D5347107C28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68E88F-3474-421D-83AB-BE2BE5A46F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7B89C-694C-4CEE-9DF0-80B71424B3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86B46F-2FA0-4A8D-8167-1B1696ADB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2A5-1078-4B60-B566-2A8DCA9E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1E4999-5B4D-403C-8DD6-54DB083326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954C5-4E9B-4FF8-A413-3BB36C66C7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1D105D-4C0D-478E-B084-39FFE80E6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212-909B-4099-927F-B58D0074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357-FE6D-42D4-BEA0-0C7DF35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1-title-slide.ai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16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E11B-7232-4562-ACB6-BB37AC88F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2-interior-slide.ai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1480" indent="-501480">
              <a:spcBef>
                <a:spcPts val="799"/>
              </a:spcBef>
              <a:spcAft>
                <a:spcPts val="400"/>
              </a:spcAft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400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spcAft>
                <a:spcPts val="400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305560" y="15192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A98-5A09-4865-A243-12B355B5B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-interior-slide.a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woosh Background-01.png"/>
          <p:cNvPicPr/>
          <p:nvPr/>
        </p:nvPicPr>
        <p:blipFill>
          <a:blip r:embed="rId3"/>
          <a:stretch/>
        </p:blipFill>
        <p:spPr>
          <a:xfrm>
            <a:off x="652320" y="374760"/>
            <a:ext cx="7839360" cy="6108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1480" indent="-501480">
              <a:spcBef>
                <a:spcPts val="799"/>
              </a:spcBef>
              <a:spcAft>
                <a:spcPts val="400"/>
              </a:spcAft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400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spcAft>
                <a:spcPts val="400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7"/>
          </p:nvPr>
        </p:nvSpPr>
        <p:spPr>
          <a:xfrm>
            <a:off x="8305560" y="15192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FB19-43AB-4EEF-B773-CD9906369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1-title-slide.ai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6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8920" indent="-88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2-interior-slide.ai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1480" indent="-501480">
              <a:spcBef>
                <a:spcPts val="799"/>
              </a:spcBef>
              <a:spcAft>
                <a:spcPts val="400"/>
              </a:spcAft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400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spcAft>
                <a:spcPts val="400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305560" y="15192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2AB-04FA-488A-BCA7-DDEAD6F88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2-interior-slide.a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Swoosh Background-01.png"/>
          <p:cNvPicPr/>
          <p:nvPr/>
        </p:nvPicPr>
        <p:blipFill>
          <a:blip r:embed="rId3"/>
          <a:stretch/>
        </p:blipFill>
        <p:spPr>
          <a:xfrm>
            <a:off x="652320" y="374760"/>
            <a:ext cx="7839360" cy="6108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1480" indent="-501480">
              <a:spcBef>
                <a:spcPts val="799"/>
              </a:spcBef>
              <a:spcAft>
                <a:spcPts val="400"/>
              </a:spcAft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400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spcAft>
                <a:spcPts val="400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2"/>
          </p:nvPr>
        </p:nvSpPr>
        <p:spPr>
          <a:xfrm>
            <a:off x="31240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3"/>
          </p:nvPr>
        </p:nvSpPr>
        <p:spPr>
          <a:xfrm>
            <a:off x="8305560" y="15192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825A-BC66-4EF0-88E9-8738E7DD4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7724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9af"/>
                </a:solidFill>
                <a:latin typeface="Arial"/>
                <a:ea typeface="ヒラギノ角ゴ Pro W3"/>
              </a:rPr>
              <a:t>How big is a Gigatonne (Gt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90360" y="4724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eat Lakes Bioenergy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ucation and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Lake Mendota?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pic>
        <p:nvPicPr>
          <p:cNvPr id="287" name="Content Placeholder 5" descr="LM.jpg"/>
          <p:cNvPicPr/>
          <p:nvPr/>
        </p:nvPicPr>
        <p:blipFill>
          <a:blip r:embed="rId1"/>
          <a:srcRect l="0" t="87" r="0" b="8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A10-27F6-41F9-86E5-C5A60C170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91EC-9CFC-4094-A150-73D4D6FDF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6091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ke Mendota contains 5 million cubic meters of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1 gigatonne = 2 Lake Mendota’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How many hours of water passing over Niagara Falls would it take to weigh a gigatonne?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pic>
        <p:nvPicPr>
          <p:cNvPr id="294" name="Content Placeholder 5" descr="Niaigra.jpg"/>
          <p:cNvPicPr/>
          <p:nvPr/>
        </p:nvPicPr>
        <p:blipFill>
          <a:blip r:embed="rId1"/>
          <a:srcRect l="0" t="138" r="0" b="138"/>
          <a:stretch/>
        </p:blipFill>
        <p:spPr>
          <a:xfrm>
            <a:off x="1752480" y="3048120"/>
            <a:ext cx="5639040" cy="3100320"/>
          </a:xfrm>
          <a:prstGeom prst="rect">
            <a:avLst/>
          </a:prstGeom>
          <a:ln w="0">
            <a:noFill/>
          </a:ln>
        </p:spPr>
      </p:pic>
      <p:sp>
        <p:nvSpPr>
          <p:cNvPr id="295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0A61-EAF9-4052-9ACF-876EC7589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B9E3-D388-450B-8159-F3ABD8728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hour, 2.7 billion gallons of water flow over Niagara Fa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1 gigatonne = weight of 98 hours of water passing over Niagara Fall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How many adult people would it take to weigh a gigatonne?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59" name="Footer Placeholder 21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20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97BA-FEC5-4E1C-B707-97EA3FC98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Content Placeholder 2" descr="People.jpg"/>
          <p:cNvPicPr/>
          <p:nvPr/>
        </p:nvPicPr>
        <p:blipFill>
          <a:blip r:embed="rId1"/>
          <a:srcRect l="0" t="87" r="0" b="8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7DE0-ADD3-45C9-84AE-034BFDC3C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57200" y="609480"/>
            <a:ext cx="822960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human weighs 180 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1 gigatonne = 12,200,000,000 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12.2 billion humans –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’s almost 2 times the current world popul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Bulls?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465A-C978-489A-A5EA-F8DB6346E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Content Placeholder 10" descr="bb.jpg"/>
          <p:cNvPicPr/>
          <p:nvPr/>
        </p:nvPicPr>
        <p:blipFill>
          <a:blip r:embed="rId1"/>
          <a:srcRect l="0" t="8962" r="0" b="896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260-8B9E-450B-9108-03C62F3FC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142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bull weighs 1 t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1 gigatonne = 1,000,000,000 bull cow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How many vehicles weigh a gigatonne?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pic>
        <p:nvPicPr>
          <p:cNvPr id="273" name="Content Placeholder 5" descr="Car.jpg"/>
          <p:cNvPicPr/>
          <p:nvPr/>
        </p:nvPicPr>
        <p:blipFill>
          <a:blip r:embed="rId1"/>
          <a:srcRect l="0" t="87" r="0" b="87"/>
          <a:stretch/>
        </p:blipFill>
        <p:spPr>
          <a:xfrm>
            <a:off x="457200" y="17524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4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455-9C59-4F7C-9ED8-1CE9620CB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7D2A-B44B-4ED4-ADA5-7ADA1E836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9144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car weighs 2 ton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1 gigatonne = 500,000,000 vehicl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9af"/>
                </a:solidFill>
                <a:latin typeface="Arial"/>
              </a:rPr>
              <a:t>Statue of Liberty?</a:t>
            </a:r>
            <a:endParaRPr b="1" lang="en-US" sz="4400" spc="-1" strike="noStrike">
              <a:solidFill>
                <a:srgbClr val="0079af"/>
              </a:solidFill>
              <a:latin typeface="Arial"/>
            </a:endParaRPr>
          </a:p>
        </p:txBody>
      </p:sp>
      <p:pic>
        <p:nvPicPr>
          <p:cNvPr id="280" name="Content Placeholder 5" descr="Statue of Liberty.jpg"/>
          <p:cNvPicPr/>
          <p:nvPr/>
        </p:nvPicPr>
        <p:blipFill>
          <a:blip r:embed="rId1"/>
          <a:srcRect l="0" t="87" r="0" b="8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4FE4-B55A-4C6D-885D-B8093C5FC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1240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glbr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305920" y="1522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5268-D74D-43CF-B437-981020647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07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e of Liberty weighs 230 ton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1 gigatonne = 4,400,000 Statu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20:52:34Z</dcterms:created>
  <dc:creator>Margaret Broeren</dc:creator>
  <dc:description/>
  <dc:language>en-US</dc:language>
  <cp:lastModifiedBy>Branden Timm</cp:lastModifiedBy>
  <dcterms:modified xsi:type="dcterms:W3CDTF">2014-11-20T16:22:08Z</dcterms:modified>
  <cp:revision>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V.DocumentId">
    <vt:lpwstr>iqN7paelff5c6MrnKb8xef</vt:lpwstr>
  </property>
  <property fmtid="{D5CDD505-2E9C-101B-9397-08002B2CF9AE}" pid="4" name="DV.MergeIncapabilityFlags">
    <vt:r8>0</vt:r8>
  </property>
  <property fmtid="{D5CDD505-2E9C-101B-9397-08002B2CF9AE}" pid="5" name="DV.VersionId">
    <vt:lpwstr>Z2kq21WxZ9PKks9ySKNHTX</vt:lpwstr>
  </property>
</Properties>
</file>