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wmf" ContentType="image/x-wmf"/>
  <Override PartName="/ppt/media/image4.png" ContentType="image/png"/>
  <Override PartName="/ppt/media/image13.jpeg" ContentType="image/jpeg"/>
  <Override PartName="/ppt/media/image6.jpeg" ContentType="image/jpeg"/>
  <Override PartName="/ppt/media/image7.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dt" idx="5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23E8-9E03-421A-A159-726AC9C5E46D}"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7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6" name="PlaceHolder 5"/>
          <p:cNvSpPr>
            <a:spLocks noGrp="1"/>
          </p:cNvSpPr>
          <p:nvPr>
            <p:ph type="ftr" idx="51"/>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747" name="PlaceHolder 6"/>
          <p:cNvSpPr>
            <a:spLocks noGrp="1"/>
          </p:cNvSpPr>
          <p:nvPr>
            <p:ph type="sldNum" idx="5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2B32-82F8-4263-81C4-27410D093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to instructor: </a:t>
            </a:r>
            <a:endParaRPr b="0" lang="en-US" sz="1200" spc="-1" strike="noStrike">
              <a:solidFill>
                <a:srgbClr val="000000"/>
              </a:solidFill>
              <a:latin typeface="Calibri"/>
            </a:endParaRPr>
          </a:p>
        </p:txBody>
      </p:sp>
      <p:sp>
        <p:nvSpPr>
          <p:cNvPr id="79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ossible, pass around a jar of ethanol to observe, smell, etc and discuss what students may know about ethanol. Students might have seen it on gas pumps as it is mixed with traditional gaso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ossible, demonstrate how ethanol burns. You can pour a small amount in a petri dish or use a small lamp, for example. Discuss the properties of ethanol that would make it a good f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activity, students investigate how to make ethanol from plants through fermentation.</a:t>
            </a:r>
            <a:endParaRPr b="0" lang="en-US" sz="1200" spc="-1" strike="noStrike">
              <a:solidFill>
                <a:srgbClr val="000000"/>
              </a:solidFill>
              <a:latin typeface="Calibri"/>
            </a:endParaRPr>
          </a:p>
        </p:txBody>
      </p:sp>
      <p:sp>
        <p:nvSpPr>
          <p:cNvPr id="82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warm-up you can have students write the definition of fuel in their own words and share 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helpful introduction to fuels with short experiments investigating combustion and photosynthesis, see Lesson 1 in the Biofuels vs Fossil Fuels Unit (https://www.glbrc.org/education/classroom-materials/biofuels-vs-fossil-fuels-unit). This will provide valuable background for the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you can use slides 2-6 to elicit student ideas about fuels and where they come from. The discussion can set the stage for the fermentation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79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C574-9BA6-45B6-921C-F32768E6B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compare their ideas to this standard definition.  There are two key ideas here:  energy and bu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complete background reading and questions before moving to slide 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Et baal" by Einar Helland Berger - Own work. Licensed under CC BY-SA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D6BC-3AF7-46C1-83E6-13A2A7C30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share their responses to these questions after completing the reading. Organize them on the board. It’s okay if they have a partial understanding and some inaccurate ideas. The goal is to find out what they know and engage them in this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ey similarity is that they are both fuels made from plants. A key difference is that fossil fuels are made from plants that grew millions of years ago.</a:t>
            </a:r>
            <a:endParaRPr b="0" lang="en-US" sz="1200" spc="-1" strike="noStrike">
              <a:solidFill>
                <a:srgbClr val="000000"/>
              </a:solidFill>
              <a:latin typeface="Calibri"/>
            </a:endParaRPr>
          </a:p>
        </p:txBody>
      </p:sp>
      <p:sp>
        <p:nvSpPr>
          <p:cNvPr id="80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0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7FEC-2B76-4BB2-A79F-2C56393EE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fuels we use in vehicles (cars, trucks, planes, trains) are fossil fuels made from crude oil or petrol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rude 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ulas shown are for a major component of the substance, but each substance is a mix of many different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gher level students, note that all fuels are made up of mostly C-C and C-H bonds that contain stored chemical potential energy which is released when they react with oxygen during combustion.</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F0E0-6F82-4F26-97E9-73710DFB5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basics on how fossil fuels like oil are formed. Oil is make from tiny plants and animals (plankton) that grew millions of years ago in oceans. Coal is made from plants that grew on land. After they died, they were trapped in sediments. Over millions more years, heat and pressure turned them into fuels, which we can pump out of the ground and b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need-media.smugmug.com/keyword/natural%20gas/i-n5JP5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1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A2E6-D175-4500-80D9-32B16BAEE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idea is that biofuels come from plants that were grown this year as compared to fossil fuels from plants that grew millions of years ago. Don’t worry about the details of how plants are converted into biofuels at this point. </a:t>
            </a:r>
            <a:endParaRPr b="0" lang="en-US" sz="1200" spc="-1" strike="noStrike">
              <a:solidFill>
                <a:srgbClr val="000000"/>
              </a:solidFill>
              <a:latin typeface="Calibri"/>
            </a:endParaRPr>
          </a:p>
        </p:txBody>
      </p:sp>
      <p:sp>
        <p:nvSpPr>
          <p:cNvPr id="81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FF1C-FD9F-461B-BA28-649AD0E81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cit student ideas and their interpretation of the reading and questions. The big idea is that biofuels can cycle carbon from year to year between the processes of photosynthesis and combustion, whereas fossil fuels release stored carbon through combustion which builds up in the atmosphere. Review the diagram on slide 9 to help explain this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difficult concept for students to grasp and this activity only serves to introduce the idea. Follow up this activity with the Biofuels vs Fossil Fuels unit (https://www.glbrc.org/education/classroom-materials/biofuels-vs-fossil-fuels-unit) to explore how carbon moves through the production and use of different fuels.</a:t>
            </a:r>
            <a:endParaRPr b="0" lang="en-US" sz="1200" spc="-1" strike="noStrike">
              <a:solidFill>
                <a:srgbClr val="000000"/>
              </a:solidFill>
              <a:latin typeface="Calibri"/>
            </a:endParaRPr>
          </a:p>
        </p:txBody>
      </p:sp>
      <p:sp>
        <p:nvSpPr>
          <p:cNvPr id="81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C028-9B46-4247-AD50-1C3320B49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ning fossil fuels releases CO2 that was absorbed from the atmosphere by plants millions of years ago. By using plants that were growing this year for biofuels, the hope is that we can cycle the CO2. See if students can identify what processes are associated with the arrows (photosynthesis vs combu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ue Hill, Michigan Technological University, http://www.sfi.mtu.edu/FutureFuelfromForest/CellulosicEthanol.htm </a:t>
            </a:r>
            <a:endParaRPr b="0" lang="en-US" sz="1200" spc="-1" strike="noStrike">
              <a:solidFill>
                <a:srgbClr val="000000"/>
              </a:solidFill>
              <a:latin typeface="Calibri"/>
            </a:endParaRPr>
          </a:p>
        </p:txBody>
      </p:sp>
      <p:sp>
        <p:nvSpPr>
          <p:cNvPr id="82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82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5FD6-1094-4587-9EE1-FC0E29E58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96C54-04F1-426C-AF0B-DD0CDF1C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95D5F-C6D8-43EF-9532-591651F6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8EFB298-9F14-4204-B96C-EA676F0B79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A455EE6-589D-480A-9994-66CE011CADF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93DA97-504D-4773-9CA0-027FD737661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093FCE-082E-4E0B-BA50-C3E4DBC7C1B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CB1D87-EA98-4317-A344-8620D715B2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EE1067F-255E-40DB-A64C-405E35DC35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5B3ADA0-CBBD-41A5-AD93-7EBAC71FB15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616BE47-33E2-451B-A0A8-9136BC00A09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38A0DD4-E298-46C8-B4A4-10FE685F4E8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03D022-C67C-4738-A280-1A43D656D65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8AECA-6AF2-45FC-A136-469209FA4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F2B868-DB7D-47CD-906D-BC62AEBAD2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2F4B9D7-3170-4408-8A02-787BB547D9A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CF395C3-77AB-43A9-A519-C92105FC69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B44691B-735D-4D33-A645-05F23680FF0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3094506-AF62-4FE3-A62C-875C231DA70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C7558C9-9A9C-4FD8-865E-6ED7BE6DC4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F3214E-39DF-462A-9961-51BA15443A0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7AF889-3BD6-4499-9754-D6C6213428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12BCB4F-B2C0-4294-B5F5-850C437737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0ED60B6-3509-408C-9E3C-033195A3686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F78CA-4BFA-483C-A48B-225FE13D6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BECEE31-6386-4A92-B54F-A27620DC3D5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DBC3A7D-7914-49EB-8F81-C5B7DB6EB0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1EAFDFB-77D2-49FF-BB97-53D37393B1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6066BAE-2583-4318-AF1D-592D0BAC81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C3BDEAF-4767-4D89-8FC9-259BF3C389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19C91F7-0CCD-431D-BBA6-86E9E44A83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05E6566-CD22-4423-8235-13380F0CEB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A7D1E7D-5A65-4119-84B3-AFD790B90E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C11C3F-22BE-4401-A02D-5ABA26C144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C1298F5-F308-4958-9319-BD8806E1FA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EB9950-5591-4558-9C8F-00B7E71F55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DC49429-C98A-428D-87BF-73EC3DCC36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830B9C3-9D51-4D7F-AA8C-721A04B4E42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2EFF2DC-824C-4D1A-8109-C43DCA3CD9C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80A2AF1-4F9E-424A-98F0-A94AC8CD83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FD2FF2A-194A-412D-86DB-0D1E4F0FBB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6025195-16E8-40B4-83B7-4B9C6F809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3F60668-77FB-427E-ABCD-2460E4712C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119C7C0-A858-470D-B60C-642A2EFEC0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F7C1158-C2E7-42E5-8D03-0713F4E3D5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4949FC-2889-4847-8E70-10B170DAD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05F3E1-FE4A-4400-B702-3D66B83381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053674C-906C-49C3-92C3-FBEAB70FD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2E1A241-FD84-4D77-AAC8-16A0048DA5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12A5EF0-871F-4358-9696-69F499F43E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2A31F7B-3A2D-4F09-BFBD-79C70A59A8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B935ACE-9438-4CF6-B0D7-8FC89B0C4C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098C283-2864-4E6F-A2AA-2CA092596D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D3F0AF0-8711-4002-BD9F-506FF6A484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C08EDD-1EF4-48F2-A25F-21FCA689FF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5CCF021-32C1-4C5A-AC15-40199E94A0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1C456FB-80DD-4179-9EAF-8CEB84E603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6E69A-022F-4DD3-9163-6B9BB521FDE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5EC6B2-D98A-495E-A8BF-E4694C34A0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19150C4-A9F9-44D9-8C41-807F0B8679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5E54C8-30C0-4A3A-A734-EE50E1904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D0F1ABF-226B-457B-9F73-C5746CBE2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07B589-DB8F-4467-A213-4346BD2886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74BEA82-438B-4B72-9478-255DCC605F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17E31CD-C176-4B05-A72C-8E9BCD4B8A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A039A83-2A36-44F6-900D-0317CD85B0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88A79B6-4D96-4F02-947C-ADAD899BC7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46B7846-50C2-442F-8ED3-367CD19179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2B8C3-E5B2-477A-B0F9-24A445F70EC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6F1E68A-7CD4-4A67-8EAC-0E619AF80B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89AC605-CD61-4E4E-A426-92C86E01E5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72569E9-3C00-4706-8D24-6088FE039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30807BA-866E-4C2D-B4CD-DB3323E481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6E98C1A-5A77-44DA-8F46-1D17A35026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FDE72D0-E745-4AEA-86AA-C263437649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83A8292-4837-44DE-A4C4-D63577BBB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8BCF212-8507-4746-AB6E-96A0D11EDB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92A528D-3217-499E-8A24-0EE3F019EA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DA3DD79-9E8D-4BE0-9705-B264E323DB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CBE3B-8D08-4133-9B7B-18853AEB910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EDDDF14-088B-432E-AD0A-9299125F15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173B8DC-CB2C-4CD2-9273-023FC6B223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9EAD81D-97A8-4DEA-B0F1-65253CEE24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1182ED7-F73C-412C-817F-C1D9E0ED56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6DC0758-F20C-4FBD-A552-3683067791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BC78E47-CCA6-43B4-9CF2-6AFEB2FEA5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5E0A2A1-3C23-4214-95FF-2D3F590174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5BD9D4E-9309-48B6-B3DD-B881E81B9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F5F0303-770A-488A-B8CA-DD12BB56ED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F8CF09D-CE24-438A-91C7-D61AC767B5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6EE9F-61C2-4D45-B58D-4B660BD9A46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4C136CF-FA20-437E-A88E-236F5FC896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B456692-806D-43E3-B483-CF6CFC3FB4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335846F-07C1-48A4-B4DF-B748EA015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8C20B48-3169-472B-987B-2DF9C995E9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178289E-07A6-4B53-A2ED-A718BD4867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E047060-1152-42DD-B233-22EB9B3AD6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DAA7F8C-511C-422C-AE09-370C3D34AB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E23AABB-0864-40AF-BD7D-D5A50D835B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303E5E-2866-4AAB-B535-07EAEAA9E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7022EB8-751A-4ED4-B9F9-6FF6FBF6C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15F56-FD09-4E8F-9AF9-A5A6B2E555D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F3B7045-EEAC-4D7E-811C-D599F27C57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6930523-ECB3-417E-BCBF-E68CDCA85F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8D27339-65FB-4F5B-A4CC-37D50A1194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ADF53D6-0328-4016-AD5D-63AB327E34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59DA184-B0F4-458A-A456-93531D354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E5770BA-8565-4C73-B83F-2F19BC235E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B9C9B40-5952-45DE-82C0-DDDE729A41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B14DF6C-C56D-4196-BA3D-4CCE05A0B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5BE28F1-DB9F-4BE4-8E5A-61661FD961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03324C0-D3D6-4CA6-9EF8-A511E7F4DB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5726-5455-46D8-A3BF-A8AB0B23A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BFE62-7BB8-452A-B495-5A5E5722689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D91228E-F5FE-4A8D-AB00-9853E27FA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0E9EEF1-2708-41BD-831B-195A8D808C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267BA95-D238-49DB-83F1-F44333893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D332579-051D-4D59-9422-D876E06173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E4AACF7-52E6-4246-9A13-86660B8782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79DF2B7-DB6F-4EE7-9211-F1DBA3EEF0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CCAC126-C84C-476F-B418-DF146244F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DFA2792-6E5E-4365-AE54-6525275912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758A321-E54F-4E42-8407-0CCF8AD95E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4B7805A-5E59-46FD-8A3D-CFB4A17A42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D3FE1-0793-4780-A5FB-4845231694B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8FD0F10-1F8B-4B90-A1F6-7CF6F6404F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99E254E-F1E0-433B-B2CE-247B7E3A5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2950450-6E13-473A-85B9-5411BDBB3B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046813B-1C77-46CA-B8BB-91A59F88D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5813AB4-44EA-481D-865C-7F68A3D00A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9F92171-713D-4395-A1F0-A3002DF4E0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66D5825-8CCE-4F6B-BAF3-63DAD41E0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5EBD1-08A6-4A40-BE57-D16BDA947B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4109DA-E00D-4DB7-A5B6-F7202C8606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CEB636-5D07-4942-908E-976BD46F9D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E00D6D-3ACA-4807-8C0B-55CC67CAAB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18EAAD-9149-408C-898E-42ACABEAA1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CDE5C6-305D-428E-84E1-1EA68514C9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C59185-BD73-42A1-A7F5-0C0AD7FAD2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230B074-FAF4-4489-84C9-510310AE3E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3E18-28EF-4D2E-ACC5-DFC75669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2581E0-32B7-4547-B111-22ACBD9581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63E70D-CC78-434B-9936-98A4224AEB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B31398-B401-4CD2-876F-A323CA5223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3645E3-65BD-4CF5-B2C5-12A6BB6065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37233A-E46A-4206-9FB2-E48CE18B4A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3847D6B-18BB-4FA2-AA7F-4FEC4C9FF8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62CA616-5488-4E05-90FC-1016749C81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0D04648-E59B-4336-9708-D48A7F8A923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FA67377-6B88-4683-BB23-FDAA5E8F385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6C25AB-C7DE-4960-901B-5B8F2687B6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B304-520E-453F-B49B-498348F1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2D5B19-5E6C-4A08-AA2C-18C8FFA28D2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676A660-F8CA-4380-8842-657870F3BA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F65AF2-9516-432B-B373-2CBA80C191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8E1C09-3335-4E7B-AC21-59135A451D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60F8791-1A7D-4631-8BBE-D41B4E7663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76B40B-61AD-417A-BA39-5CF4ECF5F5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0C5449-38FA-47AC-BEEE-4242B90956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E689D37-19B8-4D9E-B69D-C391893999A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6A17936-7844-4A57-99E9-2CFAE69D7C4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C8E6-EDE8-4726-B455-3EAACE37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0A31-43C6-4D13-9632-0225304B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B376F6F-6083-4DA0-92EE-B386082E30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42CDE1-5F5A-40C6-96F6-89CAAAFDE7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A24CAA-099A-4A99-A452-06AE175A5E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8BDB2E-63FB-4A47-9BFF-C6A66C38C3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23ABFC-A316-4FEC-A28F-098F459970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1713C6-8C47-4031-84F0-67752961D8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C8CE14-3C9D-48C5-AFC3-0A2065041B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21A167-0B69-49E1-8DF8-B9EC0A7E12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C04F94-B4E5-4F16-A4C2-B7FB714E6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C73E-BF2E-4869-ABD6-8518D558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10FE1C-B75C-4252-891E-F46B96A4BB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8C927FC-1D85-49E6-83D7-A686E951B21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93B726D-6FD6-44D3-A2A3-B32A6F3C1E6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C790B62-5C7C-43C4-AAB5-7BD4CA32D90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32E9292-1C5A-477F-8238-8D6ABF7BF2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E77313-B44F-45A8-B65A-C1D2EFFDA8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6ACFB0-7D34-468E-8552-12E8063070E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1B116B6-5835-48D5-B75A-8C84E5FCDBD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8E707E0-37B3-4B3E-A763-D4FD2ECC2FC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2BE302-A9A3-46D2-9061-40350277F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9C16-1864-4F67-ACD3-C0E0A113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303F9DA-21D4-473D-A571-4D8E942344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5F1D7E4-F021-4F6C-A2E3-3D152B424E1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85A5315-C532-47CC-AE9C-5212CD3761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B87403-54ED-4F55-8F50-964AD41B7DE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6A1C451-F66D-4057-BF59-5CD7DEE5443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400BE7A-CCE7-462F-8F84-A4170A6835A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DAD4A29-ADFA-4ED3-91B2-9246AFC05D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000014-BF54-4B62-AB65-99816A1118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DE8D57-3973-4297-B454-C9F9DEAD60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BDA1D9A-DC21-479D-9C51-412424F8A1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F878-9CD9-4CDD-8785-3EB1333A4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44088EC-B0DA-47EA-8766-809418A923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A7C244-6340-4577-A4E0-0D57C4CF0E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51BCE8-35F3-435B-A888-E85CE5B7371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FED6F6-C658-441D-9F5D-F4FB173D21F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71E2E9-A531-4B4B-8AD5-AEA8861F4F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93C6DD7-241E-4552-8E40-AA90BF82F00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778119F-180E-46D0-89E1-44926496C6B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7D157F7-2C20-477F-BDBE-54EFD01F4D6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932435-5D1B-43A5-B182-59CCA1E7D00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D0919B1-FE8F-4948-AEBA-80335AA40BE7}"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1-title-slide.ai"/>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7F7C-0913-4342-9728-C5355882CB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5"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CE36-57FA-4377-A481-A2D46BA13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6"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B3D1-902C-4E54-B89C-EF583FBE4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ACBD-DFC9-47FD-B1F1-EDD2E7B51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8"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4A1C-817A-4BAD-8C57-50BEFC6ED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9"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7775-A1DC-42F4-896D-D731203B7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80"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993D-6E02-4356-8D67-314005E24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2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FA6D-20E5-43C8-A9B4-FB1255F3A0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1"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62"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1ED8-A35A-4FDE-9744-8D4594F9E5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2"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3"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1FE1-A08C-4D54-8593-90ABDA84A4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2-interior-slide.ai"/>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F87F-D85C-40DA-B361-321758945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2-interior-slide.ai"/>
          <p:cNvPicPr/>
          <p:nvPr/>
        </p:nvPicPr>
        <p:blipFill>
          <a:blip r:embed="rId2"/>
          <a:stretch/>
        </p:blipFill>
        <p:spPr>
          <a:xfrm>
            <a:off x="0" y="0"/>
            <a:ext cx="9144000" cy="6858000"/>
          </a:xfrm>
          <a:prstGeom prst="rect">
            <a:avLst/>
          </a:prstGeom>
          <a:ln w="0">
            <a:noFill/>
          </a:ln>
        </p:spPr>
      </p:pic>
      <p:pic>
        <p:nvPicPr>
          <p:cNvPr id="84" name="Picture 6" descr="Swoosh Background-01.png"/>
          <p:cNvPicPr/>
          <p:nvPr/>
        </p:nvPicPr>
        <p:blipFill>
          <a:blip r:embed="rId3"/>
          <a:stretch/>
        </p:blipFill>
        <p:spPr>
          <a:xfrm>
            <a:off x="652320" y="374760"/>
            <a:ext cx="7839360" cy="6108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8" name="PlaceHolder 4"/>
          <p:cNvSpPr>
            <a:spLocks noGrp="1"/>
          </p:cNvSpPr>
          <p:nvPr>
            <p:ph type="sldNum" idx="7"/>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A83F-337E-466E-AE37-09F6B39679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0E574-D675-4C2F-9CF7-CC3E2A75C3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5" descr="1-title-slide.ai"/>
          <p:cNvPicPr/>
          <p:nvPr/>
        </p:nvPicPr>
        <p:blipFill>
          <a:blip r:embed="rId2"/>
          <a:stretch/>
        </p:blipFill>
        <p:spPr>
          <a:xfrm>
            <a:off x="1440" y="0"/>
            <a:ext cx="9141120" cy="6858000"/>
          </a:xfrm>
          <a:prstGeom prst="rect">
            <a:avLst/>
          </a:prstGeom>
          <a:ln w="0">
            <a:noFill/>
          </a:ln>
        </p:spPr>
      </p:pic>
      <p:sp>
        <p:nvSpPr>
          <p:cNvPr id="167"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5" descr="2-interior-slide.ai"/>
          <p:cNvPicPr/>
          <p:nvPr/>
        </p:nvPicPr>
        <p:blipFill>
          <a:blip r:embed="rId2"/>
          <a:stretch/>
        </p:blipFill>
        <p:spPr>
          <a:xfrm>
            <a:off x="1440" y="0"/>
            <a:ext cx="9141120" cy="68580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ftr" idx="13"/>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11" name="PlaceHolder 4"/>
          <p:cNvSpPr>
            <a:spLocks noGrp="1"/>
          </p:cNvSpPr>
          <p:nvPr>
            <p:ph type="sldNum" idx="14"/>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4434-6ADD-4F8E-80D3-C4A80A9B9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5" descr="2-interior-slide.ai"/>
          <p:cNvPicPr/>
          <p:nvPr/>
        </p:nvPicPr>
        <p:blipFill>
          <a:blip r:embed="rId2"/>
          <a:stretch/>
        </p:blipFill>
        <p:spPr>
          <a:xfrm>
            <a:off x="0" y="0"/>
            <a:ext cx="9144000" cy="6858000"/>
          </a:xfrm>
          <a:prstGeom prst="rect">
            <a:avLst/>
          </a:prstGeom>
          <a:ln w="0">
            <a:noFill/>
          </a:ln>
        </p:spPr>
      </p:pic>
      <p:pic>
        <p:nvPicPr>
          <p:cNvPr id="249" name="Picture 6" descr="Swoosh Background-01.png"/>
          <p:cNvPicPr/>
          <p:nvPr/>
        </p:nvPicPr>
        <p:blipFill>
          <a:blip r:embed="rId3"/>
          <a:stretch/>
        </p:blipFill>
        <p:spPr>
          <a:xfrm>
            <a:off x="652320" y="374760"/>
            <a:ext cx="7839360" cy="6108480"/>
          </a:xfrm>
          <a:prstGeom prst="rect">
            <a:avLst/>
          </a:prstGeom>
          <a:ln w="0">
            <a:noFill/>
          </a:ln>
        </p:spPr>
      </p:pic>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ftr" idx="15"/>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53" name="PlaceHolder 4"/>
          <p:cNvSpPr>
            <a:spLocks noGrp="1"/>
          </p:cNvSpPr>
          <p:nvPr>
            <p:ph type="sldNum" idx="16"/>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FB55-20F9-4BD5-AA6B-FA18BCC655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CF5E-2713-4D14-BF23-B900FA4FB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4"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4E6C-19C7-496F-9B91-8643CB72E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61.xml"/><Relationship Id="rId8"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6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177720"/>
            <a:ext cx="7772400" cy="124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ea typeface="ヒラギノ角ゴ Pro W3"/>
              </a:rPr>
              <a:t>Fossil Fuels, Biofuels and Climate Change</a:t>
            </a:r>
            <a:endParaRPr b="0" lang="en-US" sz="4000" spc="-1" strike="noStrike">
              <a:solidFill>
                <a:srgbClr val="000000"/>
              </a:solidFill>
              <a:latin typeface="Calibri"/>
            </a:endParaRPr>
          </a:p>
        </p:txBody>
      </p:sp>
      <p:sp>
        <p:nvSpPr>
          <p:cNvPr id="749" name="PlaceHolder 2"/>
          <p:cNvSpPr>
            <a:spLocks noGrp="1"/>
          </p:cNvSpPr>
          <p:nvPr>
            <p:ph type="subTitle"/>
          </p:nvPr>
        </p:nvSpPr>
        <p:spPr>
          <a:xfrm>
            <a:off x="1219320" y="4724280"/>
            <a:ext cx="723888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rmentation in a Bag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roduction to the Probl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Ethanol</a:t>
            </a:r>
            <a:endParaRPr b="1" lang="en-US" sz="4400" spc="-1" strike="noStrike">
              <a:solidFill>
                <a:srgbClr val="0079af"/>
              </a:solidFill>
              <a:latin typeface="Arial"/>
            </a:endParaRPr>
          </a:p>
        </p:txBody>
      </p:sp>
      <p:pic>
        <p:nvPicPr>
          <p:cNvPr id="780" name="Content Placeholder 19" descr=""/>
          <p:cNvPicPr/>
          <p:nvPr/>
        </p:nvPicPr>
        <p:blipFill>
          <a:blip r:embed="rId1"/>
          <a:stretch/>
        </p:blipFill>
        <p:spPr>
          <a:xfrm>
            <a:off x="457200" y="1444680"/>
            <a:ext cx="8229600" cy="4962600"/>
          </a:xfrm>
          <a:prstGeom prst="rect">
            <a:avLst/>
          </a:prstGeom>
          <a:ln w="0">
            <a:noFill/>
          </a:ln>
        </p:spPr>
      </p:pic>
      <p:sp>
        <p:nvSpPr>
          <p:cNvPr id="781" name="Footer Placeholder 21"/>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82" name="Slide Number Placeholder 20"/>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0137-15DE-4DE5-9D43-0C5B459DF7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3" name="Picture 5" descr=""/>
          <p:cNvPicPr/>
          <p:nvPr/>
        </p:nvPicPr>
        <p:blipFill>
          <a:blip r:embed="rId2"/>
          <a:stretch/>
        </p:blipFill>
        <p:spPr>
          <a:xfrm>
            <a:off x="5562720" y="1219320"/>
            <a:ext cx="1601640" cy="1218960"/>
          </a:xfrm>
          <a:prstGeom prst="rect">
            <a:avLst/>
          </a:prstGeom>
          <a:ln w="0">
            <a:noFill/>
          </a:ln>
        </p:spPr>
      </p:pic>
      <p:sp>
        <p:nvSpPr>
          <p:cNvPr id="784" name="Text Box 6"/>
          <p:cNvSpPr/>
          <p:nvPr/>
        </p:nvSpPr>
        <p:spPr>
          <a:xfrm>
            <a:off x="5867280" y="243828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body)"/>
                <a:ea typeface="ＭＳ 明朝"/>
              </a:rPr>
              <a:t>2-D structure</a:t>
            </a:r>
            <a:endParaRPr b="0" lang="en-US" sz="1000" spc="-1" strike="noStrike">
              <a:solidFill>
                <a:srgbClr val="000000"/>
              </a:solidFill>
              <a:latin typeface="Arial"/>
            </a:endParaRPr>
          </a:p>
        </p:txBody>
      </p:sp>
      <p:pic>
        <p:nvPicPr>
          <p:cNvPr id="785" name="Picture 7" descr=""/>
          <p:cNvPicPr/>
          <p:nvPr/>
        </p:nvPicPr>
        <p:blipFill>
          <a:blip r:embed="rId3"/>
          <a:stretch/>
        </p:blipFill>
        <p:spPr>
          <a:xfrm>
            <a:off x="7467480" y="1523880"/>
            <a:ext cx="1219320" cy="762120"/>
          </a:xfrm>
          <a:prstGeom prst="rect">
            <a:avLst/>
          </a:prstGeom>
          <a:ln w="0">
            <a:noFill/>
          </a:ln>
        </p:spPr>
      </p:pic>
      <p:sp>
        <p:nvSpPr>
          <p:cNvPr id="786" name="Text Box 7"/>
          <p:cNvSpPr/>
          <p:nvPr/>
        </p:nvSpPr>
        <p:spPr>
          <a:xfrm>
            <a:off x="7543800" y="243828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body)"/>
                <a:ea typeface="ＭＳ 明朝"/>
              </a:rPr>
              <a:t>3-D structure</a:t>
            </a:r>
            <a:endParaRPr b="0" lang="en-US" sz="1000" spc="-1" strike="noStrike">
              <a:solidFill>
                <a:srgbClr val="000000"/>
              </a:solidFill>
              <a:latin typeface="Arial"/>
            </a:endParaRPr>
          </a:p>
        </p:txBody>
      </p:sp>
      <p:pic>
        <p:nvPicPr>
          <p:cNvPr id="787" name="Picture 1" descr=""/>
          <p:cNvPicPr/>
          <p:nvPr/>
        </p:nvPicPr>
        <p:blipFill>
          <a:blip r:embed="rId4"/>
          <a:stretch/>
        </p:blipFill>
        <p:spPr>
          <a:xfrm>
            <a:off x="5486400" y="2819520"/>
            <a:ext cx="2058840" cy="1904760"/>
          </a:xfrm>
          <a:prstGeom prst="rect">
            <a:avLst/>
          </a:prstGeom>
          <a:ln w="0">
            <a:noFill/>
          </a:ln>
        </p:spPr>
      </p:pic>
      <p:pic>
        <p:nvPicPr>
          <p:cNvPr id="788" name="Picture 2" descr="clear-liquid-glass-bottle(1).jpg"/>
          <p:cNvPicPr/>
          <p:nvPr/>
        </p:nvPicPr>
        <p:blipFill>
          <a:blip r:embed="rId5"/>
          <a:stretch/>
        </p:blipFill>
        <p:spPr>
          <a:xfrm>
            <a:off x="5638680" y="4800600"/>
            <a:ext cx="1363680" cy="1743120"/>
          </a:xfrm>
          <a:prstGeom prst="rect">
            <a:avLst/>
          </a:prstGeom>
          <a:ln w="0">
            <a:noFill/>
          </a:ln>
        </p:spPr>
      </p:pic>
      <p:pic>
        <p:nvPicPr>
          <p:cNvPr id="789" name="Picture 3" descr=""/>
          <p:cNvPicPr/>
          <p:nvPr/>
        </p:nvPicPr>
        <p:blipFill>
          <a:blip r:embed="rId6"/>
          <a:stretch/>
        </p:blipFill>
        <p:spPr>
          <a:xfrm>
            <a:off x="7696080" y="3657600"/>
            <a:ext cx="1189080" cy="191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What is a fuel?</a:t>
            </a:r>
            <a:endParaRPr b="1" lang="en-US" sz="4400" spc="-1" strike="noStrike">
              <a:solidFill>
                <a:srgbClr val="0079af"/>
              </a:solidFill>
              <a:latin typeface="Arial"/>
            </a:endParaRPr>
          </a:p>
        </p:txBody>
      </p:sp>
      <p:sp>
        <p:nvSpPr>
          <p:cNvPr id="75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52" name="Slide Number Placeholder 3"/>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2A8B-65D6-41F9-A582-E95C9D60E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33520" y="380520"/>
            <a:ext cx="8229600" cy="223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rPr>
              <a:t>Fuel:  A substance used to produce heat or other forms of energy when burned</a:t>
            </a:r>
            <a:endParaRPr b="1" lang="en-US" sz="4000" spc="-1" strike="noStrike">
              <a:solidFill>
                <a:srgbClr val="0079af"/>
              </a:solidFill>
              <a:latin typeface="Arial"/>
            </a:endParaRPr>
          </a:p>
        </p:txBody>
      </p:sp>
      <p:sp>
        <p:nvSpPr>
          <p:cNvPr id="754" name="Slide Number Placeholder 6"/>
          <p:cNvSpPr/>
          <p:nvPr/>
        </p:nvSpPr>
        <p:spPr>
          <a:xfrm>
            <a:off x="6553080" y="64119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B1B4-2B63-43EF-9BA0-C6C721B61B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5" name="Picture 2" descr="https://upload.wikimedia.org/wikipedia/commons/thumb/3/3c/Et_baal.jpg/800px-Et_baal.jpg"/>
          <p:cNvPicPr/>
          <p:nvPr/>
        </p:nvPicPr>
        <p:blipFill>
          <a:blip r:embed="rId1"/>
          <a:stretch/>
        </p:blipFill>
        <p:spPr>
          <a:xfrm>
            <a:off x="3200400" y="2616120"/>
            <a:ext cx="2562120" cy="341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Biofuels vs Fossil Fuels</a:t>
            </a:r>
            <a:endParaRPr b="1" lang="en-US" sz="4400" spc="-1" strike="noStrike">
              <a:solidFill>
                <a:srgbClr val="0079af"/>
              </a:solidFill>
              <a:latin typeface="Arial"/>
            </a:endParaRPr>
          </a:p>
        </p:txBody>
      </p:sp>
      <p:sp>
        <p:nvSpPr>
          <p:cNvPr id="757" name=""/>
          <p:cNvSpPr txBox="1"/>
          <p:nvPr/>
        </p:nvSpPr>
        <p:spPr>
          <a:xfrm>
            <a:off x="471600" y="846000"/>
            <a:ext cx="8229600" cy="470880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ossil fuel? List some examples.</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biofuel? List some examples.</a:t>
            </a:r>
            <a:endParaRPr b="0" lang="en-US" sz="3200" spc="-1" strike="noStrike">
              <a:solidFill>
                <a:srgbClr val="000000"/>
              </a:solidFill>
              <a:latin typeface="Calibri"/>
            </a:endParaRPr>
          </a:p>
          <a:p>
            <a:pPr>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re fossil fuels and biofuels similar and different? </a:t>
            </a:r>
            <a:endParaRPr b="0" lang="en-US" sz="3200" spc="-1" strike="noStrike">
              <a:solidFill>
                <a:srgbClr val="000000"/>
              </a:solidFill>
              <a:latin typeface="Calibri"/>
            </a:endParaRPr>
          </a:p>
        </p:txBody>
      </p:sp>
      <p:sp>
        <p:nvSpPr>
          <p:cNvPr id="758" name="Footer Placeholder 2"/>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6840"/>
            <a:ext cx="8229600" cy="135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rPr>
              <a:t>Most transportation fuels are fossil fuels</a:t>
            </a:r>
            <a:endParaRPr b="1" lang="en-US" sz="4000" spc="-1" strike="noStrike">
              <a:solidFill>
                <a:srgbClr val="0079af"/>
              </a:solidFill>
              <a:latin typeface="Arial"/>
            </a:endParaRPr>
          </a:p>
        </p:txBody>
      </p:sp>
      <p:pic>
        <p:nvPicPr>
          <p:cNvPr id="760" name="Content Placeholder 4" descr=""/>
          <p:cNvPicPr/>
          <p:nvPr/>
        </p:nvPicPr>
        <p:blipFill>
          <a:blip r:embed="rId1"/>
          <a:stretch/>
        </p:blipFill>
        <p:spPr>
          <a:xfrm>
            <a:off x="685800" y="3200400"/>
            <a:ext cx="1590840" cy="1981080"/>
          </a:xfrm>
          <a:prstGeom prst="rect">
            <a:avLst/>
          </a:prstGeom>
          <a:ln w="0">
            <a:noFill/>
          </a:ln>
        </p:spPr>
      </p:pic>
      <p:sp>
        <p:nvSpPr>
          <p:cNvPr id="761" name="Slide Number Placeholder 3"/>
          <p:cNvSpPr/>
          <p:nvPr/>
        </p:nvSpPr>
        <p:spPr>
          <a:xfrm>
            <a:off x="6553080" y="64119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DA4-138A-408C-B662-E2F75C06D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Picture 5" descr=""/>
          <p:cNvPicPr/>
          <p:nvPr/>
        </p:nvPicPr>
        <p:blipFill>
          <a:blip r:embed="rId2"/>
          <a:stretch/>
        </p:blipFill>
        <p:spPr>
          <a:xfrm>
            <a:off x="6705720" y="3200400"/>
            <a:ext cx="1520640" cy="2019240"/>
          </a:xfrm>
          <a:prstGeom prst="rect">
            <a:avLst/>
          </a:prstGeom>
          <a:ln w="0">
            <a:noFill/>
          </a:ln>
        </p:spPr>
      </p:pic>
      <p:pic>
        <p:nvPicPr>
          <p:cNvPr id="763" name="Picture 6" descr=""/>
          <p:cNvPicPr/>
          <p:nvPr/>
        </p:nvPicPr>
        <p:blipFill>
          <a:blip r:embed="rId3"/>
          <a:stretch/>
        </p:blipFill>
        <p:spPr>
          <a:xfrm>
            <a:off x="2819520" y="3200400"/>
            <a:ext cx="1344600" cy="2019240"/>
          </a:xfrm>
          <a:prstGeom prst="rect">
            <a:avLst/>
          </a:prstGeom>
          <a:ln w="0">
            <a:noFill/>
          </a:ln>
        </p:spPr>
      </p:pic>
      <p:pic>
        <p:nvPicPr>
          <p:cNvPr id="764" name="Picture 7" descr=""/>
          <p:cNvPicPr/>
          <p:nvPr/>
        </p:nvPicPr>
        <p:blipFill>
          <a:blip r:embed="rId4"/>
          <a:stretch/>
        </p:blipFill>
        <p:spPr>
          <a:xfrm>
            <a:off x="4724280" y="3200400"/>
            <a:ext cx="1506600" cy="2019240"/>
          </a:xfrm>
          <a:prstGeom prst="rect">
            <a:avLst/>
          </a:prstGeom>
          <a:ln w="0">
            <a:noFill/>
          </a:ln>
        </p:spPr>
      </p:pic>
      <p:sp>
        <p:nvSpPr>
          <p:cNvPr id="765" name="TextBox 8"/>
          <p:cNvSpPr/>
          <p:nvPr/>
        </p:nvSpPr>
        <p:spPr>
          <a:xfrm>
            <a:off x="2819520" y="2438280"/>
            <a:ext cx="13446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ol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8</a:t>
            </a:r>
            <a:r>
              <a:rPr b="0" lang="en-US" sz="2000" spc="-1" strike="noStrike">
                <a:solidFill>
                  <a:srgbClr val="000000"/>
                </a:solidFill>
                <a:latin typeface="Arial"/>
              </a:rPr>
              <a:t>H</a:t>
            </a:r>
            <a:r>
              <a:rPr b="0" lang="en-US" sz="2000" spc="-1" strike="noStrike" baseline="-25000">
                <a:solidFill>
                  <a:srgbClr val="000000"/>
                </a:solidFill>
                <a:latin typeface="Arial"/>
              </a:rPr>
              <a:t>18</a:t>
            </a:r>
            <a:endParaRPr b="0" lang="en-US" sz="2000" spc="-1" strike="noStrike">
              <a:solidFill>
                <a:srgbClr val="000000"/>
              </a:solidFill>
              <a:latin typeface="Arial"/>
            </a:endParaRPr>
          </a:p>
        </p:txBody>
      </p:sp>
      <p:sp>
        <p:nvSpPr>
          <p:cNvPr id="766" name="TextBox 9"/>
          <p:cNvSpPr/>
          <p:nvPr/>
        </p:nvSpPr>
        <p:spPr>
          <a:xfrm>
            <a:off x="4724280" y="2438280"/>
            <a:ext cx="152424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t fu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H</a:t>
            </a:r>
            <a:r>
              <a:rPr b="0" lang="en-US" sz="2000" spc="-1" strike="noStrike" baseline="-25000">
                <a:solidFill>
                  <a:srgbClr val="000000"/>
                </a:solidFill>
                <a:latin typeface="Arial"/>
              </a:rPr>
              <a:t>22</a:t>
            </a:r>
            <a:endParaRPr b="0" lang="en-US" sz="2000" spc="-1" strike="noStrike">
              <a:solidFill>
                <a:srgbClr val="000000"/>
              </a:solidFill>
              <a:latin typeface="Arial"/>
            </a:endParaRPr>
          </a:p>
        </p:txBody>
      </p:sp>
      <p:sp>
        <p:nvSpPr>
          <p:cNvPr id="767" name="TextBox 10"/>
          <p:cNvSpPr/>
          <p:nvPr/>
        </p:nvSpPr>
        <p:spPr>
          <a:xfrm>
            <a:off x="6705720" y="2514600"/>
            <a:ext cx="1523880" cy="71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l fu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2000" spc="-1" strike="noStrike" baseline="-25000">
                <a:solidFill>
                  <a:srgbClr val="000000"/>
                </a:solidFill>
                <a:latin typeface="Arial"/>
              </a:rPr>
              <a:t>12</a:t>
            </a:r>
            <a:r>
              <a:rPr b="0" lang="en-US" sz="1800" spc="-1" strike="noStrike">
                <a:solidFill>
                  <a:srgbClr val="000000"/>
                </a:solidFill>
                <a:latin typeface="Arial"/>
              </a:rPr>
              <a:t>H</a:t>
            </a:r>
            <a:r>
              <a:rPr b="0" lang="en-US" sz="2000" spc="-1" strike="noStrike" baseline="-25000">
                <a:solidFill>
                  <a:srgbClr val="000000"/>
                </a:solidFill>
                <a:latin typeface="Arial"/>
              </a:rPr>
              <a:t>26</a:t>
            </a:r>
            <a:endParaRPr b="0" lang="en-US" sz="2000" spc="-1" strike="noStrike">
              <a:solidFill>
                <a:srgbClr val="000000"/>
              </a:solidFill>
              <a:latin typeface="Arial"/>
            </a:endParaRPr>
          </a:p>
        </p:txBody>
      </p:sp>
      <p:sp>
        <p:nvSpPr>
          <p:cNvPr id="768" name="TextBox 11"/>
          <p:cNvSpPr/>
          <p:nvPr/>
        </p:nvSpPr>
        <p:spPr>
          <a:xfrm>
            <a:off x="685800" y="25909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de o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79af"/>
                </a:solidFill>
                <a:latin typeface="Calibri"/>
              </a:rPr>
              <a:t>Where do fossil fuels come from?</a:t>
            </a:r>
            <a:endParaRPr b="0" lang="en-US" sz="3600" spc="-1" strike="noStrike">
              <a:solidFill>
                <a:srgbClr val="000000"/>
              </a:solidFill>
              <a:latin typeface="Calibri"/>
            </a:endParaRPr>
          </a:p>
        </p:txBody>
      </p:sp>
      <p:pic>
        <p:nvPicPr>
          <p:cNvPr id="770" name="Picture 2" descr="il and Natural Gas Formation (primary)"/>
          <p:cNvPicPr/>
          <p:nvPr/>
        </p:nvPicPr>
        <p:blipFill>
          <a:blip r:embed="rId1"/>
          <a:stretch/>
        </p:blipFill>
        <p:spPr>
          <a:xfrm>
            <a:off x="838080" y="1295280"/>
            <a:ext cx="7518600" cy="516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3" descr="BioFuelCycle3_sml-1.png"/>
          <p:cNvPicPr/>
          <p:nvPr/>
        </p:nvPicPr>
        <p:blipFill>
          <a:blip r:embed="rId1"/>
          <a:stretch/>
        </p:blipFill>
        <p:spPr>
          <a:xfrm>
            <a:off x="20520" y="1219320"/>
            <a:ext cx="9144000" cy="4508280"/>
          </a:xfrm>
          <a:prstGeom prst="rect">
            <a:avLst/>
          </a:prstGeom>
          <a:ln w="0">
            <a:noFill/>
          </a:ln>
        </p:spPr>
      </p:pic>
      <p:sp>
        <p:nvSpPr>
          <p:cNvPr id="772"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79af"/>
                </a:solidFill>
                <a:latin typeface="Calibri"/>
                <a:ea typeface="ＭＳ Ｐゴシック"/>
              </a:rPr>
              <a:t>Where do biofuels come fr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Biofuels vs Fossil Fuels</a:t>
            </a:r>
            <a:endParaRPr b="1" lang="en-US" sz="4400" spc="-1" strike="noStrike">
              <a:solidFill>
                <a:srgbClr val="0079af"/>
              </a:solidFill>
              <a:latin typeface="Arial"/>
            </a:endParaRPr>
          </a:p>
        </p:txBody>
      </p:sp>
      <p:sp>
        <p:nvSpPr>
          <p:cNvPr id="774" name=""/>
          <p:cNvSpPr txBox="1"/>
          <p:nvPr/>
        </p:nvSpPr>
        <p:spPr>
          <a:xfrm>
            <a:off x="471600" y="846000"/>
            <a:ext cx="8229600" cy="470880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ould replacing fossil fuels with biofuels help with the climate change problem?</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Footer Placeholder 2"/>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777"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0E2C-1971-4F8B-976E-0A9C0BD518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8" name="Picture 5" descr="arbon Cycle"/>
          <p:cNvPicPr/>
          <p:nvPr/>
        </p:nvPicPr>
        <p:blipFill>
          <a:blip r:embed="rId1"/>
          <a:stretch/>
        </p:blipFill>
        <p:spPr>
          <a:xfrm>
            <a:off x="1044720" y="536400"/>
            <a:ext cx="7054560" cy="551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6:46:35Z</dcterms:created>
  <dc:creator>LEITH NYE</dc:creator>
  <dc:description/>
  <dc:language>en-US</dc:language>
  <cp:lastModifiedBy>LEITH NYE</cp:lastModifiedBy>
  <dcterms:modified xsi:type="dcterms:W3CDTF">2015-11-23T16:46:57Z</dcterms:modified>
  <cp:revision>1</cp:revision>
  <dc:subject/>
  <dc:title>Fossil Fuels, Biofuels and Climate Ch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V.DocumentId">
    <vt:lpwstr>iqN7paelff5c6MrnKb8xef</vt:lpwstr>
  </property>
  <property fmtid="{D5CDD505-2E9C-101B-9397-08002B2CF9AE}" pid="4" name="DV.MergeIncapabilityFlags">
    <vt:r8>0</vt:r8>
  </property>
  <property fmtid="{D5CDD505-2E9C-101B-9397-08002B2CF9AE}" pid="5" name="DV.VersionId">
    <vt:lpwstr>Z2kq21WxZ9PKks9ySKNHTX</vt:lpwstr>
  </property>
</Properties>
</file>